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EA6-7A67-478D-8CAF-4F1A5051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2E7-A018-44F7-B0AD-F53EBAAE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821-26A9-4D7D-8EB4-C6C0F96EE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F6D-F006-4366-BCFF-58E40A28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C23-2BF0-42E4-98E3-F5AA9583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22D9-B23E-4910-BE5E-E771283D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1C1-D4ED-4690-B004-7D239EDD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6B5-BD3A-4F69-96E0-6E57E55F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A8A9-20EB-4643-B4D3-099277F7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AFB7-7CD3-4877-B220-D89D2D15E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2351-1D37-4F9C-A243-619996E37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1688-D4EF-4CB4-9D2A-08FE6DCFA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4777-C566-4591-B5E0-D82AFAF573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AD53-56DA-4AA3-AB64-8A0160F9C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1AE8-9DE4-4B7C-B4CD-AE4523EA6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8885-FBAD-4D7A-B1E7-3D0581B8D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7B93-298B-4373-9275-62FF0BF56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FDD5-07EF-40A6-9712-9E555BC9C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14E9-EBD0-4CBD-BAA9-9ABC5D001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6D6C-0F55-4204-A407-C11CF7344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54C5-823B-43D4-A1CC-D65B39DF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7D8CFF38-6C0F-43B6-9CBE-2C9067EC5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5D185C41-4A23-48C7-85DE-C0B03B61A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direct object expres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wh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is done. In the example below, the indirect object answers this question: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À qui parle Gisèl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om does Gisèle speak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_01_p204a"/>
          <p:cNvPicPr/>
          <p:nvPr/>
        </p:nvPicPr>
        <p:blipFill>
          <a:blip r:embed="rId1"/>
          <a:stretch/>
        </p:blipFill>
        <p:spPr>
          <a:xfrm>
            <a:off x="3162240" y="3352680"/>
            <a:ext cx="2819520" cy="126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2_01_p204b"/>
          <p:cNvPicPr/>
          <p:nvPr/>
        </p:nvPicPr>
        <p:blipFill>
          <a:blip r:embed="rId2"/>
          <a:stretch/>
        </p:blipFill>
        <p:spPr>
          <a:xfrm>
            <a:off x="1219320" y="4648320"/>
            <a:ext cx="68580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E45E934B-945A-4B06-88C6-95CE448E21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 object pronouns replace indirect object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2_01_p204d"/>
          <p:cNvPicPr/>
          <p:nvPr/>
        </p:nvPicPr>
        <p:blipFill>
          <a:blip r:embed="rId1"/>
          <a:stretch/>
        </p:blipFill>
        <p:spPr>
          <a:xfrm>
            <a:off x="1914480" y="4038480"/>
            <a:ext cx="5313240" cy="23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2_01_p204c"/>
          <p:cNvPicPr/>
          <p:nvPr/>
        </p:nvPicPr>
        <p:blipFill>
          <a:blip r:embed="rId2"/>
          <a:stretch/>
        </p:blipFill>
        <p:spPr>
          <a:xfrm>
            <a:off x="2133720" y="2362320"/>
            <a:ext cx="47941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4D50F757-2681-4893-B252-837F84001B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rect object pronoun usually precedes the conjugated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negative statement, place the indirect object pronoun betwe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onjugated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2_01_p204f"/>
          <p:cNvPicPr/>
          <p:nvPr/>
        </p:nvPicPr>
        <p:blipFill>
          <a:blip r:embed="rId1"/>
          <a:stretch/>
        </p:blipFill>
        <p:spPr>
          <a:xfrm>
            <a:off x="1066680" y="4876920"/>
            <a:ext cx="624852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2_01_p204e"/>
          <p:cNvPicPr/>
          <p:nvPr/>
        </p:nvPicPr>
        <p:blipFill>
          <a:blip r:embed="rId2"/>
          <a:stretch/>
        </p:blipFill>
        <p:spPr>
          <a:xfrm>
            <a:off x="1143000" y="2819520"/>
            <a:ext cx="67816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10B03CED-AD76-44D4-BA20-626407C73F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nfinitive follows a conjugated verb, the indirect object pronoun precedes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2_01_p204g"/>
          <p:cNvPicPr/>
          <p:nvPr/>
        </p:nvPicPr>
        <p:blipFill>
          <a:blip r:embed="rId1"/>
          <a:stretch/>
        </p:blipFill>
        <p:spPr>
          <a:xfrm>
            <a:off x="1600200" y="3048120"/>
            <a:ext cx="56386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C3B5CC1D-7057-432A-B3BE-57D9822A04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2_01_p205a"/>
          <p:cNvPicPr/>
          <p:nvPr/>
        </p:nvPicPr>
        <p:blipFill>
          <a:blip r:embed="rId1"/>
          <a:stretch/>
        </p:blipFill>
        <p:spPr>
          <a:xfrm>
            <a:off x="990720" y="2133720"/>
            <a:ext cx="70866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B3844BDB-9AEF-4F31-9E50-903E79FBE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rect object pronoun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a verb beginning with a vowel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2_01_p205b"/>
          <p:cNvPicPr/>
          <p:nvPr/>
        </p:nvPicPr>
        <p:blipFill>
          <a:blip r:embed="rId1"/>
          <a:stretch/>
        </p:blipFill>
        <p:spPr>
          <a:xfrm>
            <a:off x="2209680" y="2971800"/>
            <a:ext cx="4768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076A6DE2-77C2-42B1-8BEF-3A83E066B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Disjunctive pro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ve pronouns can also be used alone or in phrases without a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12_01_p205c"/>
          <p:cNvPicPr/>
          <p:nvPr/>
        </p:nvPicPr>
        <p:blipFill>
          <a:blip r:embed="rId1"/>
          <a:stretch/>
        </p:blipFill>
        <p:spPr>
          <a:xfrm>
            <a:off x="1523880" y="2438280"/>
            <a:ext cx="601992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12_01_p205d"/>
          <p:cNvPicPr/>
          <p:nvPr/>
        </p:nvPicPr>
        <p:blipFill>
          <a:blip r:embed="rId2"/>
          <a:stretch/>
        </p:blipFill>
        <p:spPr>
          <a:xfrm>
            <a:off x="1905120" y="5334120"/>
            <a:ext cx="53337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D8759391-B192-4C31-918D-3B231F7783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1752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Disjunctive pronoun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ve pronouns emphasize the person to whom  they re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self, ourselv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., ad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même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disjunc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12_01_p205f"/>
          <p:cNvPicPr/>
          <p:nvPr/>
        </p:nvPicPr>
        <p:blipFill>
          <a:blip r:embed="rId1"/>
          <a:stretch/>
        </p:blipFill>
        <p:spPr>
          <a:xfrm>
            <a:off x="1752480" y="5181480"/>
            <a:ext cx="5918400" cy="101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12_01_p205e"/>
          <p:cNvPicPr/>
          <p:nvPr/>
        </p:nvPicPr>
        <p:blipFill>
          <a:blip r:embed="rId2"/>
          <a:stretch/>
        </p:blipFill>
        <p:spPr>
          <a:xfrm>
            <a:off x="1752480" y="3124080"/>
            <a:ext cx="55612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-</a:t>
            </a:r>
            <a:fld id="{D5E6CB7F-AA83-43A8-8A8B-FCADA9FDA9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essayez"/>
          <p:cNvPicPr/>
          <p:nvPr/>
        </p:nvPicPr>
        <p:blipFill>
          <a:blip r:embed="rId1"/>
          <a:stretch/>
        </p:blipFill>
        <p:spPr>
          <a:xfrm>
            <a:off x="53352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4"/>
          <p:cNvSpPr/>
          <p:nvPr/>
        </p:nvSpPr>
        <p:spPr>
          <a:xfrm>
            <a:off x="961920" y="1539720"/>
            <a:ext cx="73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1600200"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 avec le pronom d’objet indirect appropri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19000" y="2590920"/>
          <a:ext cx="7620120" cy="338292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4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, je ____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__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2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63"/>
          <p:cNvSpPr/>
          <p:nvPr/>
        </p:nvSpPr>
        <p:spPr>
          <a:xfrm>
            <a:off x="1762200" y="2590920"/>
            <a:ext cx="7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yright © 2010 Vista Higher Learning. All rights reserved.</dc:creator>
  <dc:description/>
  <cp:keywords/>
  <dc:language>en-US</dc:language>
  <cp:lastModifiedBy>marilaur</cp:lastModifiedBy>
  <dcterms:modified xsi:type="dcterms:W3CDTF">2013-04-25T02:08:01Z</dcterms:modified>
  <cp:revision>22</cp:revision>
  <dc:subject>Structures 12.1</dc:subject>
  <dc:title>PROMENADES</dc:title>
</cp:coreProperties>
</file>